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3E4-78C8-4EB3-9EF0-7FC24416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6B8-8547-4115-9C5D-C389FFBC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3DA-00EE-40C0-A76F-F16FAF19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085-733F-44B5-BA30-066C8915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197-E7BD-465F-8E79-BCF5BCF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6C4-6662-434B-A382-0EC6E8F3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39C-47E4-4C4E-9C87-E13A9AA2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B64-62B6-4328-8C8B-2259710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E6B-D2EC-4D80-9C82-289826F7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616-1A54-48EF-B714-8E101A2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444-65DE-4E3C-A096-37CAA9E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9F5-7987-4A9F-82DD-4A9E7989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94C-2A1C-4B21-A5E3-39E9C7EE3C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636640"/>
            <a:ext cx="597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8-11-24T09:42:21Z</dcterms:modified>
  <cp:revision>10</cp:revision>
  <dc:subject/>
  <dc:title>Diapositiva 1</dc:title>
</cp:coreProperties>
</file>